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0D0-DC2B-4781-9829-5119478F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22E-E901-4964-8794-C5882B84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072-8C3A-427B-A4F5-3E639705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0A3-5F21-401B-A678-33C33EF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C82-9A30-41CD-9794-C0694C8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718-1030-48CD-8760-80F044F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434-A858-484E-A840-F6ACD894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FDB-71A0-499F-9D0F-1AD3482A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D3D-624F-40D3-B561-571ADCD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B23-CEF5-48E1-89C3-FF1A042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132-E2F6-4E31-A24F-6C14BA4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2A0-D4AB-432E-AFBF-2FF3415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6A6-A049-4337-809C-590D4812B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15228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有美丽的头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1522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美丽的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52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龙是她的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-15228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缝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爱两个男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会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-1522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令她幸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那是一个问题。她该怎么做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15228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跳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你会怎么做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-1522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喜爱粉红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弹钢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-1522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她的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她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所有的动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6"/>
          <a:stretch/>
        </p:blipFill>
        <p:spPr>
          <a:xfrm>
            <a:off x="-1522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4-14T16:34:30Z</dcterms:modified>
  <cp:revision>10</cp:revision>
  <dc:subject/>
  <dc:title>The Princess</dc:title>
</cp:coreProperties>
</file>